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C85-0153-48C3-88E6-526D14BE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1EF-DBB2-4B96-BD7C-DCEC123D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1BF-5B62-4B30-9CD1-AD07BFD8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B37-6989-4368-8359-1556BE13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8F0-FC08-4842-98F0-0134642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B69-F8C0-4899-ACF9-EE6D542F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27D-89A2-4511-85A0-A2C6B782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BA3-D33C-4354-973D-B30B836C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0C3-2043-4346-90C7-C686BF60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414-AC69-432F-9B2C-BB61267C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631-C547-4F9C-B3CF-2F22F6F9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5B4-438F-4D3F-9F7D-1EB033C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5902-2C20-4E09-900A-216D47CAEA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Addition, subtraction, and scalar operati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Addition and subtrac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ddition and subtraction of matrices can only be performed if the matrices are of the same orde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ddition and subtraction of matrices is performed by adding or subtracting the corresponding element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B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calar multiplic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a matrix is multiplied by a scalar, each element of the matrix is multiplied by the scalar. The order of the matrix is unchang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B, Q.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6B, Q. 2, 3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Properties of addition of matric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4929120" y="4857840"/>
          <a:ext cx="19224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4857840"/>
                    <a:ext cx="1922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5786280" y="4857840"/>
          <a:ext cx="19224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6280" y="4857840"/>
                    <a:ext cx="1922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71680" y="2071800"/>
          <a:ext cx="8001000" cy="45147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tative (doesn’t matter which or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+ B = B +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ociative (doesn’t matter where the brackets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+ B) + C = A + (B + 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c)A = k(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+ O = O +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+   A = O = 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+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 + kB = k(A + 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 + cA = (k + c)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imple matrix equa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imple matrix equations that require the addition or subtraction of a matrix or multiplication of a scalar can be solved in a similar way to algebraic equatio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16B, Q.7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16B, Q. 10, 12, 13, 1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1:27:18Z</dcterms:created>
  <dc:creator>08843474</dc:creator>
  <dc:description/>
  <dc:language>en-US</dc:language>
  <cp:lastModifiedBy>08843474</cp:lastModifiedBy>
  <dcterms:modified xsi:type="dcterms:W3CDTF">2011-05-09T05:03:46Z</dcterms:modified>
  <cp:revision>4</cp:revision>
  <dc:subject/>
  <dc:title>Matrices</dc:title>
</cp:coreProperties>
</file>